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0808"/>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B690-52A4-43A0-B472-66BE8AB00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BC56-423E-4C89-A0E5-3CB5E5F1CCB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2.0</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0315-D4BF-4C3E-8D63-DBF6628D47A0}"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s another great tool from google.  If you didn’t know, it’s not just for searching any more.  You can easily set up RSS to catch the sites you wa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DD4A-2B00-4927-B6CA-2934FA4C2505}"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student safety is of utmost importance.   Therefore we will create secure environments to conduct our education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al consent is also necessa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2A10-CE82-4B21-BC1D-CE1BC9F0FA25}"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2.0 is also known as the Read Write Web.  It includes Blogs, Wikis, Podcasts, Really Simple Syndication and More.  It is not an upgraded version of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yet, it’s f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my promotion of Web 2.0 is for activities outside of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8BF6-4E1C-4C6E-83E4-824EB5A5BE9F}"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 O’Reilly 2004 quoted Web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 Berners-Lee: many have questioned whether one can use the term in a meaningful way, since many of the technology components of "Web 2.0" have existed since the early days of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gs: pre Web (HTTP:  1991, Usenet  newsgroups   term blog: 19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s:  Ward Cunningham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Bookmarking: 1996    2004 Deli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oogle May 2005 as personal homepage – April 2007 rena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casting: 2000, Adam Curry former VJ,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S: 199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A312-BAFE-4E31-A899-741632BE7C2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gs, or Web logs, are like online journals; MySpace/Facebook is the most popular blogging plat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a secure/private environment for educational journaling with peer feedba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80F7-3C71-44EE-AC93-2DAFDEB73CB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s allow members to edit pages.  It is the perfect environment for collaboration.  The educational applications and implications are remark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Euro + other SS, A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yan:  Embeds podcasts, student have their own wikis – more for web sites – post work.  Students create collaborative study guides for ex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B1DA-3497-4514-994E-879941DB8CC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casts are audio streams available online.  The subject matter of podcasts varies, but there are powerful uses in education.  iPods are option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8320-8679-4354-AD55-D48D4FEA3265}"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ousands of podcasts available for free use, including many educational ones.  Student-created and teacher-created podcasts extend the ability for creativity and production of audio for online distribution.  Imagine the applications in any subject area involving voice or music (FL, English, interviewing.. Think of som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SJ:  AP Physics,  Campus Minist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F4BF-9B8C-4DBC-838B-B94C15ACC89F}"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S brings the content you want from the Web that is updated frequently.  Instead of checking several sites you check regularly, bring the content to you!  Student blog entries and podcasts can also be delivered to you by visiting one site.  Just set up the page to collect the f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BD339-9745-44C4-90EC-CE0F12CD9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5D4D1-04DC-4C2E-BBE5-8E657E3FA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38"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9"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F5E0A-0804-4579-9196-31355AB1BA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9F2AED-D256-451F-A16F-0B8C639410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48BB2A-77F4-4CC2-9ADF-34F36A950A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4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4"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5"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437F2E-3E61-4933-9C48-50E0B86857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47"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8"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9"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CDA8D-950D-4435-96B4-EA45F111C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3"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B5BA79-730F-44D3-A313-437D87A29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5"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6"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CCA80D-4A1C-4B40-8F67-01E78A9FA8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8"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9"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0"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1"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42EE72-D8FF-45F7-AADD-0946337FB0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63"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4"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5"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6"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7"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8"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65AAE5-4B86-43BF-899D-C4926A9A53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E6C1F4-304A-4013-A2BA-2B46221A16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4A634-98B9-459F-9866-E80BAFE02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5"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0853FA-9F0D-4DEB-8B0B-B25F5105C5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ADC761-CB8B-48FA-91ED-B72E16882E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0"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736ED5-D5A9-4D65-944D-322AFF1F99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093E48-A728-4EE0-A0B8-2B89341493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6307C1-9CF2-4F4A-A127-59B3441E26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8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5"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6"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3254C1-D64D-458D-866E-52562CA6FC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88"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9"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0"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E976D7-3621-44A4-A035-8F36DEC0B8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92"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3"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4"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AC2519-6D04-411F-BE45-E80A90EBE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96"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7"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08EEE0-AF07-426B-BEC6-E1682CD19D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99"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1"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2"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45A506-9BBC-4ECB-98B2-C647E91CB1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179C6-F41C-4719-B722-DA14F3F11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04"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5"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6"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7"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8"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9"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F736A9-1F19-49DE-B325-9FE85C168B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39C706-1C1D-4D77-9D7F-3817095F1F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1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24E4CA-668E-477A-A4A8-1EC1B9BE22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1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2440E3-3851-43CC-95E4-CDDE0241B4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2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36CE2F-E0A0-4608-A1E7-A72187D5FF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E4041B-32D2-4761-8C5D-08F1074398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72D5FE-ADB2-40FF-890A-3A6859B43F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2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D538DF-9548-4B00-A43E-7AE2E087AB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2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1327B5-54C1-4B32-81FE-6F721E1627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3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8AF7AD-0225-4735-9DED-3F50913C73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0B233-4108-472B-A6AE-5FEC836424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3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3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6006C5-9F0E-40F6-A08E-6AAA659175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4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F9A5B9-3FC5-4B9C-B767-65D308B8BD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4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4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5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9020E86-2283-4823-BCAB-D68EA5777B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757401-AF8B-47F0-B48D-E2AE13E61B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5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B7D972-5487-41CF-89CD-24559898B0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5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CC2160-1D17-4C32-939C-EE8774F728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6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6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366139-BB93-4ED9-BAEF-1C484046CB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B912CF-B881-4816-A47C-E3D3B2BA15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856E7C-4DC2-4239-8176-C662930A80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6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6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6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A1F0DF-F56B-4D3A-B737-36FCDCEC90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ED748-47DC-45FD-818A-E923025D3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B09D56-2BAC-4B24-A92C-F10E87C357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767B57-D651-49D8-9443-9FD632CC0B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7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7BD67D-D936-483C-80C7-BE594718CC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8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C9EB68-A831-49BC-B4EA-EFD5FB76A2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8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8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9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9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CDF37E-45E7-4294-B991-74171843A3F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A107A-60B1-42D2-AAC3-4CAAD6316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4BA77-34ED-4577-A11E-E073E6364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E243F-86B7-4EB7-8C5B-C0875C064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B56AE-469B-40C5-BAD4-A32D7E407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B8BC8-3981-42CD-A449-17FFEA5D2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07ADD-A704-4D0C-A3AC-767CF4F4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3ACD2-9646-4BBB-89B2-C0EDD2A82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5A7EA-2B52-4A8E-A3A1-6E8AD3B0A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2E1B3-F32E-43CA-93A6-CEBD800F7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850D3-C4D1-4866-9688-ECA6DED24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D87F9-A305-42E8-BF33-DEA286FB6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903953-FFB8-4A22-BCE1-2C95E6A9F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8"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6F874-A5FD-4CE7-AE10-60C55ADE38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0"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126FA7-E90E-470C-B1C4-EE9886A28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2"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3"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DE6021-C3A3-4056-8690-61F83E160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DF19D-2DBF-4BC9-8C05-03053E49D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3B737-4C88-44C0-B57D-DA57D9C0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08A546-F0E8-4D3F-A910-F3841E027C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7"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8"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9"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CC5AA-A6AA-4C6C-81B4-6FC5664FA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3"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8C1E0-B49D-484A-9787-30671C741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7"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61D92-0381-4C5A-AE89-ACF577107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9"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941AE-964E-4EC7-ACA7-7844722E6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4"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5"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6B9400-B4D1-4458-A460-99C7EB744E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7"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9"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0"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80B7EB-6EA1-4EC0-988A-D62B98963B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CD9793-8B04-40E0-83D4-E33BD33FDA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9"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BAB869-DC51-4588-A2EC-590AD3FEA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0D6597-5FA3-47B5-8DF8-0D3076AAF0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9F0D9-EB5C-4EB4-8ADB-C9DEB6ECA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3"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4"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FE2EB-669E-4E62-9A44-AEADA90AE0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85452C-0512-40AE-820F-4DDF406DDB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63E768-35E0-4E59-AFAA-D8048F299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8"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9"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0"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9D677-521A-4037-9DA1-746BC4103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2"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4"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AAFC6-AC9C-45A1-B145-8C0BD713C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8"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41DEB-A71B-42F0-ADBE-C14CB4336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0"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1F29C-C055-4C9B-8402-EB4F6A11C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5"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6"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17D05D-FEEC-4F4F-B522-195065756A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8"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0"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1"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F5BA8F-7F49-4A07-BD21-0CC5FDA46F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AB1149-9D50-4889-8417-4036F095B7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0B949-5344-4D6D-BE98-415A5D133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0"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4B687D-6DFD-42D9-A03A-DE11BFEBB7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2"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528F5C-B61E-4EA2-B2B8-FEDEA5265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4"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5"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15354-0F99-4F62-86CB-645B571C3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F5AF9-7489-45AB-BEAC-0671E9A1B4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F16733-5AE1-44FC-851E-308B3C4B76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9"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0"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1"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BBADA-2558-4A08-9FFE-EA5CCAE75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83"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5"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A5178-1241-4AA5-A042-7F66BC802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87"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8"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9"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43CE6-EBFF-4301-86CD-48D69BBB7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1"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2"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4D31D-F840-4946-8F54-A8E3CCF81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6"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7"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63B497-47EE-4F67-832A-4B0399E278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58511-D334-4611-9287-DECFDE36A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9"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0"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1"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2"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3"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4"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30CBC6-337B-4B4E-9736-205E1DA96B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290FEE-F018-4477-B7E5-9D3581AAB7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1"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1471B6-6DC1-4C70-B4B1-D615506DA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73A168-860E-4B16-B7C4-88EA51DBFC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5"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2DD631-93BB-4423-9726-9EA1BFE296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5E4F59-4799-40B4-8E1E-2AEFEAC0B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89E44-EC5B-486F-AB7E-3985850BFD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2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48C20-32B7-49EA-9DCB-EC00B8D14B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24"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6"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EE5F8F-B487-46B5-AF2C-EB1C142C6F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28"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9"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0"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89792-2963-4231-A0F5-F8DDC1599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BE88-793C-4794-8E5A-FAAC58BB8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2"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3"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345A98-9537-4D27-B0CD-993111954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6"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8"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5BD7D6-2A0D-4BCF-84B8-26A785CA2D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40"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1"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2"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3"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4"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5"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ACFE15-4B54-44AB-9262-95CFB03001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CAD897-C37A-4679-BBF4-1FFBF3EC67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2"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353911-986C-4EFE-8350-DD98A4CBF6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4"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7E6F06-4FEB-4921-952F-449D0531D6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6"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ECACF3-CD26-4517-A013-08A398A66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B4A500-89ED-4D57-BD89-A24FB83FDE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194A09-B3BD-48F9-97AB-D9D342B28B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6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6FF89-4025-4777-895D-8FE856E90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D6F0A-4368-4F4A-8999-E3C9E44E3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65"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6"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7"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7885F-1040-43E9-BD17-16A00954D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69"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1"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B4BF1-F970-45A7-BAE5-E03220DCF5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3"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4"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34B52-BB8E-467E-9B3B-603BEA17F1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7"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9"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FD09AD-B2D4-4C19-A32C-C01C19D4BB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81"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2"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3"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4"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5"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6"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657993-06F6-40A3-92B3-7E24AC65F5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D17B10-204D-46E5-AE03-3C3A780F27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3"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7E0E63-F8D6-4F5B-8940-9FF72320EF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80C268-2E74-4F68-B145-B351B78FC2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7"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98"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18780-B1A6-4D3A-A3A1-A80BD4FC62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55963C-3D6D-4BF8-8CFC-9AB5B0830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519A-2DFF-4FC7-B95E-1D7FEDB4F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DBF2C7-F652-4991-9D8C-67094DE12C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2"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3"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4"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DE8C0-C16E-4BB3-A67C-06C1E4B2FB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6"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7"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8"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4EBEF-7043-4CC4-8A0D-078838E4A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1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2"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C6FC7B-7E2B-48BC-AC8C-38269338EE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14"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5"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1D2DA4-13A4-4681-8593-9D58F93BC2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17"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8"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9"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0"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209A78-4217-4623-AEBE-5AE543EDB7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2"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3"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4"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5"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6"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7"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3F2180-A1DF-42BA-B076-72D1EBD6EC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BAAE25-52FD-4511-BB8F-CD57B04329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34"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A8D6E5-A520-4F20-994C-7116D2FAB3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36"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847E96-8DC8-4DD0-81BB-68BC70C4EF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672C-4AEA-42C8-BB90-E25A4BADC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370"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627A-B02F-455F-92A4-CC0B3334A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1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6837-5035-4AE6-AEA5-8769F28DE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52"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549B-7820-4ECE-9511-37390DDF61D8}"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BB8D-1F95-4FEE-A210-675C7C0CFF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83"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B1CE-478B-4600-A175-B1FBD8273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4"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7A00-501B-44F7-8E9D-3131E3A27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65"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71F5-651E-4800-980C-10816C278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206"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9DA7-668D-48BD-AE50-BE995D826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247"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9215-2312-4EA6-BAE4-223F70EF62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288"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D140-0C0C-43AF-AF33-4E329FEA8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329"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D1B5-3759-43B6-BEAC-F32DCCA30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560" y="4038120"/>
            <a:ext cx="79246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What is Web 2.0?</a:t>
            </a:r>
            <a:endParaRPr b="0" lang="en-US" sz="4400" spc="-1" strike="noStrike">
              <a:solidFill>
                <a:srgbClr val="080808"/>
              </a:solidFill>
              <a:latin typeface="Tahoma"/>
            </a:endParaRPr>
          </a:p>
        </p:txBody>
      </p:sp>
      <p:sp>
        <p:nvSpPr>
          <p:cNvPr id="500" name="PlaceHolder 2"/>
          <p:cNvSpPr>
            <a:spLocks noGrp="1"/>
          </p:cNvSpPr>
          <p:nvPr>
            <p:ph type="subTitle"/>
          </p:nvPr>
        </p:nvSpPr>
        <p:spPr>
          <a:xfrm>
            <a:off x="304920" y="4971600"/>
            <a:ext cx="8610480" cy="89532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mmunication, Collaboration &amp; Community</a:t>
            </a:r>
            <a:endParaRPr b="0" lang="en-US" sz="3200" spc="-1" strike="noStrike">
              <a:solidFill>
                <a:srgbClr val="080808"/>
              </a:solidFill>
              <a:latin typeface="Tahoma"/>
            </a:endParaRPr>
          </a:p>
        </p:txBody>
      </p:sp>
      <p:pic>
        <p:nvPicPr>
          <p:cNvPr id="501" name="Picture 4" descr=""/>
          <p:cNvPicPr/>
          <p:nvPr/>
        </p:nvPicPr>
        <p:blipFill>
          <a:blip r:embed="rId1"/>
          <a:stretch/>
        </p:blipFill>
        <p:spPr>
          <a:xfrm>
            <a:off x="2895480" y="76320"/>
            <a:ext cx="5391360" cy="388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Google </a:t>
            </a:r>
            <a:endParaRPr b="0" lang="en-US" sz="4400" spc="-1" strike="noStrike">
              <a:solidFill>
                <a:srgbClr val="080808"/>
              </a:solidFill>
              <a:latin typeface="Tahoma"/>
            </a:endParaRPr>
          </a:p>
        </p:txBody>
      </p:sp>
      <p:sp>
        <p:nvSpPr>
          <p:cNvPr id="520" name="PlaceHolder 2"/>
          <p:cNvSpPr>
            <a:spLocks noGrp="1"/>
          </p:cNvSpPr>
          <p:nvPr>
            <p:ph/>
          </p:nvPr>
        </p:nvSpPr>
        <p:spPr>
          <a:xfrm>
            <a:off x="1523880" y="1294920"/>
            <a:ext cx="7391520" cy="5257800"/>
          </a:xfrm>
          <a:prstGeom prst="rect">
            <a:avLst/>
          </a:prstGeom>
          <a:noFill/>
          <a:ln w="0">
            <a:noFill/>
          </a:ln>
        </p:spPr>
        <p:txBody>
          <a:bodyPr anchor="t">
            <a:normAutofit fontScale="99000"/>
          </a:bodyPr>
          <a:p>
            <a:pPr marL="339480" indent="-3394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great way to consolidate Web resources, including a plethora of </a:t>
            </a:r>
            <a:r>
              <a:rPr b="1" lang="en-US" sz="3200" spc="-1" strike="noStrike">
                <a:solidFill>
                  <a:srgbClr val="080808"/>
                </a:solidFill>
                <a:latin typeface="Tahoma"/>
              </a:rPr>
              <a:t>educational resources</a:t>
            </a:r>
            <a:r>
              <a:rPr b="0" lang="en-US" sz="3200" spc="-1" strike="noStrike">
                <a:solidFill>
                  <a:srgbClr val="080808"/>
                </a:solidFill>
                <a:latin typeface="Tahoma"/>
              </a:rPr>
              <a:t> grouped by subject area</a:t>
            </a:r>
            <a:endParaRPr b="0" lang="en-US" sz="3200" spc="-1" strike="noStrike">
              <a:solidFill>
                <a:srgbClr val="080808"/>
              </a:solidFill>
              <a:latin typeface="Tahoma"/>
            </a:endParaRPr>
          </a:p>
          <a:p>
            <a:pPr marL="339480" indent="-3394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adgets allow media to come to you, including RSS feeds  </a:t>
            </a:r>
            <a:endParaRPr b="0" lang="en-US" sz="3200" spc="-1" strike="noStrike">
              <a:solidFill>
                <a:srgbClr val="080808"/>
              </a:solidFill>
              <a:latin typeface="Tahoma"/>
            </a:endParaRPr>
          </a:p>
          <a:p>
            <a:pPr marL="339480" indent="-3394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lus fun things like weather, calendar, Sudoku… Bookmarks (Web accessible)</a:t>
            </a:r>
            <a:endParaRPr b="0" lang="en-US" sz="3200" spc="-1" strike="noStrike">
              <a:solidFill>
                <a:srgbClr val="080808"/>
              </a:solidFill>
              <a:latin typeface="Tahoma"/>
            </a:endParaRPr>
          </a:p>
          <a:p>
            <a:pPr marL="339480" indent="-3394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oogle, it’s not just for searching!</a:t>
            </a:r>
            <a:endParaRPr b="0" lang="en-US" sz="3200" spc="-1" strike="noStrike">
              <a:solidFill>
                <a:srgbClr val="080808"/>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curity</a:t>
            </a:r>
            <a:endParaRPr b="0" lang="en-US" sz="4400" spc="-1" strike="noStrike">
              <a:solidFill>
                <a:srgbClr val="080808"/>
              </a:solidFill>
              <a:latin typeface="Tahoma"/>
            </a:endParaRPr>
          </a:p>
        </p:txBody>
      </p:sp>
      <p:sp>
        <p:nvSpPr>
          <p:cNvPr id="522"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ll technologies must be private and secure for education</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nly we can view and edit</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ccounts are necessary</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kispaces: Private accounts free for educators (others pay $50 per year)</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dcasts and Blogs can be secured</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rent consent required</a:t>
            </a:r>
            <a:endParaRPr b="0" lang="en-US" sz="32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Web 2.0 = Read/Write Web </a:t>
            </a:r>
            <a:endParaRPr b="0" lang="en-US" sz="4400" spc="-1" strike="noStrike">
              <a:solidFill>
                <a:srgbClr val="080808"/>
              </a:solidFill>
              <a:latin typeface="Tahoma"/>
            </a:endParaRPr>
          </a:p>
        </p:txBody>
      </p:sp>
      <p:sp>
        <p:nvSpPr>
          <p:cNvPr id="503"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logs </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ki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dcast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S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d More…</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t’s Free!</a:t>
            </a:r>
            <a:endParaRPr b="0" lang="en-US" sz="3200" spc="-1" strike="noStrike">
              <a:solidFill>
                <a:srgbClr val="080808"/>
              </a:solidFill>
              <a:latin typeface="Tahoma"/>
            </a:endParaRPr>
          </a:p>
        </p:txBody>
      </p:sp>
      <p:pic>
        <p:nvPicPr>
          <p:cNvPr id="504" name="Picture 4" descr=""/>
          <p:cNvPicPr/>
          <p:nvPr/>
        </p:nvPicPr>
        <p:blipFill>
          <a:blip r:embed="rId1"/>
          <a:stretch/>
        </p:blipFill>
        <p:spPr>
          <a:xfrm>
            <a:off x="4257720" y="1968480"/>
            <a:ext cx="4581360" cy="4432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imeline</a:t>
            </a:r>
            <a:endParaRPr b="0" lang="en-US" sz="4400" spc="-1" strike="noStrike">
              <a:solidFill>
                <a:srgbClr val="080808"/>
              </a:solidFill>
              <a:latin typeface="Tahoma"/>
            </a:endParaRPr>
          </a:p>
        </p:txBody>
      </p:sp>
      <p:sp>
        <p:nvSpPr>
          <p:cNvPr id="506"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eb 2.0 first coined 2004</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logs – pre-Web, 1983  Term Weblog 1997</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ki – Ward Cunningham 1995</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SS – 1995</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cial Bookmarking – 1996, Delicious 2004</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dcasting – 2000</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Google – 2005, renamed April 2007</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logs</a:t>
            </a:r>
            <a:endParaRPr b="0" lang="en-US" sz="4400" spc="-1" strike="noStrike">
              <a:solidFill>
                <a:srgbClr val="080808"/>
              </a:solidFill>
              <a:latin typeface="Tahoma"/>
            </a:endParaRPr>
          </a:p>
        </p:txBody>
      </p:sp>
      <p:sp>
        <p:nvSpPr>
          <p:cNvPr id="508"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lnSpc>
                <a:spcPct val="90000"/>
              </a:lnSpc>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eb logs or chronological online personal journals with reflections, comments and often links to other Web sites produced by the writer</a:t>
            </a:r>
            <a:br>
              <a:rPr sz="3200"/>
            </a:b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lnSpc>
                <a:spcPct val="90000"/>
              </a:lnSpc>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thers may subscribe to a person's blog, which allows them to read it and write comments in response</a:t>
            </a:r>
            <a:br>
              <a:rPr sz="3200"/>
            </a:b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lnSpc>
                <a:spcPct val="90000"/>
              </a:lnSpc>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mages, video and audio can be embedded as well</a:t>
            </a:r>
            <a:endParaRPr b="0" lang="en-US" sz="32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Wikis</a:t>
            </a:r>
            <a:endParaRPr b="0" lang="en-US" sz="4400" spc="-1" strike="noStrike">
              <a:solidFill>
                <a:srgbClr val="080808"/>
              </a:solidFill>
              <a:latin typeface="Tahoma"/>
            </a:endParaRPr>
          </a:p>
        </p:txBody>
      </p:sp>
      <p:sp>
        <p:nvSpPr>
          <p:cNvPr id="510" name="PlaceHolder 2"/>
          <p:cNvSpPr>
            <a:spLocks noGrp="1"/>
          </p:cNvSpPr>
          <p:nvPr>
            <p:ph/>
          </p:nvPr>
        </p:nvSpPr>
        <p:spPr>
          <a:xfrm>
            <a:off x="1523880" y="1294920"/>
            <a:ext cx="7391520" cy="5257800"/>
          </a:xfrm>
          <a:prstGeom prst="rect">
            <a:avLst/>
          </a:prstGeom>
          <a:noFill/>
          <a:ln w="0">
            <a:noFill/>
          </a:ln>
        </p:spPr>
        <p:txBody>
          <a:bodyPr anchor="t">
            <a:normAutofit fontScale="94000"/>
          </a:bodyPr>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type of Web site that allows visitors to easily add, remove, or otherwise edit and change some available content</a:t>
            </a:r>
            <a:endParaRPr b="0" lang="en-US" sz="3200" spc="-1" strike="noStrike">
              <a:solidFill>
                <a:srgbClr val="080808"/>
              </a:solidFill>
              <a:latin typeface="Tahoma"/>
            </a:endParaRPr>
          </a:p>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llaborative Read/Write tool</a:t>
            </a:r>
            <a:endParaRPr b="0" lang="en-US" sz="3200" spc="-1" strike="noStrike">
              <a:solidFill>
                <a:srgbClr val="080808"/>
              </a:solidFill>
              <a:latin typeface="Tahoma"/>
            </a:endParaRPr>
          </a:p>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Wikipedia</a:t>
            </a:r>
            <a:r>
              <a:rPr b="0" lang="en-US" sz="3200" spc="-1" strike="noStrike">
                <a:solidFill>
                  <a:srgbClr val="080808"/>
                </a:solidFill>
                <a:latin typeface="Tahoma"/>
              </a:rPr>
              <a:t> – largest encyclopedia</a:t>
            </a:r>
            <a:endParaRPr b="0" lang="en-US" sz="3200" spc="-1" strike="noStrike">
              <a:solidFill>
                <a:srgbClr val="080808"/>
              </a:solidFill>
              <a:latin typeface="Tahoma"/>
            </a:endParaRPr>
          </a:p>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ll types of media can be embedded</a:t>
            </a:r>
            <a:endParaRPr b="0" lang="en-US" sz="3200" spc="-1" strike="noStrike">
              <a:solidFill>
                <a:srgbClr val="080808"/>
              </a:solidFill>
              <a:latin typeface="Tahoma"/>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	</a:t>
            </a:r>
            <a:r>
              <a:rPr b="0" lang="en-US" sz="2800" spc="-1" strike="noStrike">
                <a:solidFill>
                  <a:srgbClr val="080808"/>
                </a:solidFill>
                <a:latin typeface="Tahoma"/>
              </a:rPr>
              <a:t>Images, Audio, Video, Flash</a:t>
            </a:r>
            <a:endParaRPr b="0" lang="en-US" sz="2800" spc="-1" strike="noStrike">
              <a:solidFill>
                <a:srgbClr val="080808"/>
              </a:solidFill>
              <a:latin typeface="Tahoma"/>
            </a:endParaRPr>
          </a:p>
          <a:p>
            <a:pPr marL="322200" indent="-3222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ki means Quick or Fast in Hawaiian</a:t>
            </a:r>
            <a:endParaRPr b="0" lang="en-US" sz="32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dcasts</a:t>
            </a:r>
            <a:endParaRPr b="0" lang="en-US" sz="4400" spc="-1" strike="noStrike">
              <a:solidFill>
                <a:srgbClr val="080808"/>
              </a:solidFill>
              <a:latin typeface="Tahoma"/>
            </a:endParaRPr>
          </a:p>
        </p:txBody>
      </p:sp>
      <p:sp>
        <p:nvSpPr>
          <p:cNvPr id="512"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syndicated audio (or video) program produced either by traditional media, such as radio and television, or by individuals, including educators, hobbyists, students, or other enthusiasts passionate about a topic</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riginally from iPod, but POD now means Playable on Demand</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 iPod is optional, not required</a:t>
            </a: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dcasts</a:t>
            </a:r>
            <a:endParaRPr b="0" lang="en-US" sz="4400" spc="-1" strike="noStrike">
              <a:solidFill>
                <a:srgbClr val="080808"/>
              </a:solidFill>
              <a:latin typeface="Tahoma"/>
            </a:endParaRPr>
          </a:p>
        </p:txBody>
      </p:sp>
      <p:sp>
        <p:nvSpPr>
          <p:cNvPr id="514"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isting educational podcasts available for free use in all subject area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free program, Audacity, allows you  to create mp3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odcasts (video) are possible, but more difficult to implement</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You can do it too!</a:t>
            </a:r>
            <a:endParaRPr b="0" lang="en-US" sz="3200" spc="-1" strike="noStrike">
              <a:solidFill>
                <a:srgbClr val="080808"/>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SS </a:t>
            </a:r>
            <a:endParaRPr b="0" lang="en-US" sz="4400" spc="-1" strike="noStrike">
              <a:solidFill>
                <a:srgbClr val="080808"/>
              </a:solidFill>
              <a:latin typeface="Tahoma"/>
            </a:endParaRPr>
          </a:p>
        </p:txBody>
      </p:sp>
      <p:sp>
        <p:nvSpPr>
          <p:cNvPr id="516" name="PlaceHolder 2"/>
          <p:cNvSpPr>
            <a:spLocks noGrp="1"/>
          </p:cNvSpPr>
          <p:nvPr>
            <p:ph/>
          </p:nvPr>
        </p:nvSpPr>
        <p:spPr>
          <a:xfrm>
            <a:off x="1523880" y="1294920"/>
            <a:ext cx="7391520" cy="5257800"/>
          </a:xfrm>
          <a:prstGeom prst="rect">
            <a:avLst/>
          </a:prstGeom>
          <a:noFill/>
          <a:ln w="0">
            <a:noFill/>
          </a:ln>
        </p:spPr>
        <p:txBody>
          <a:bodyPr anchor="t">
            <a:normAutofit fontScale="95000"/>
          </a:bodyPr>
          <a:p>
            <a:pPr marL="325800" indent="-3258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SS: (Really Simple Syndication):</a:t>
            </a:r>
            <a:br>
              <a:rPr sz="3200"/>
            </a:br>
            <a:r>
              <a:rPr b="0" lang="en-US" sz="3200" spc="-1" strike="noStrike">
                <a:solidFill>
                  <a:srgbClr val="080808"/>
                </a:solidFill>
                <a:latin typeface="Tahoma"/>
              </a:rPr>
              <a:t>a format for aggregating Web content in one place</a:t>
            </a:r>
            <a:endParaRPr b="0" lang="en-US" sz="3200" spc="-1" strike="noStrike">
              <a:solidFill>
                <a:srgbClr val="080808"/>
              </a:solidFill>
              <a:latin typeface="Tahoma"/>
            </a:endParaRPr>
          </a:p>
          <a:p>
            <a:pPr marL="325800" indent="-3258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ring the content to you. News feeds: (NPR, Current Events, sports articles) </a:t>
            </a:r>
            <a:endParaRPr b="0" lang="en-US" sz="3200" spc="-1" strike="noStrike">
              <a:solidFill>
                <a:srgbClr val="080808"/>
              </a:solidFill>
              <a:latin typeface="Tahoma"/>
            </a:endParaRPr>
          </a:p>
          <a:p>
            <a:pPr marL="325800" indent="-3258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llect most any Web content as it is updated including podcasts and Blogs</a:t>
            </a:r>
            <a:endParaRPr b="0" lang="en-US" sz="3200" spc="-1" strike="noStrike">
              <a:solidFill>
                <a:srgbClr val="080808"/>
              </a:solidFill>
              <a:latin typeface="Tahoma"/>
            </a:endParaRPr>
          </a:p>
          <a:p>
            <a:pPr marL="325800" indent="-3258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ring the Web to You, Saving You Time!</a:t>
            </a:r>
            <a:endParaRPr b="0" lang="en-US" sz="3200" spc="-1" strike="noStrike">
              <a:solidFill>
                <a:srgbClr val="080808"/>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880" y="75960"/>
            <a:ext cx="7382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ocial Bookmarking</a:t>
            </a:r>
            <a:endParaRPr b="0" lang="en-US" sz="4400" spc="-1" strike="noStrike">
              <a:solidFill>
                <a:srgbClr val="080808"/>
              </a:solidFill>
              <a:latin typeface="Tahoma"/>
            </a:endParaRPr>
          </a:p>
        </p:txBody>
      </p:sp>
      <p:sp>
        <p:nvSpPr>
          <p:cNvPr id="518"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l.icio.us, Furl, Digg</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llow you to share bookmarks</a:t>
            </a:r>
            <a:endParaRPr b="0" lang="en-US" sz="3200" spc="-1" strike="noStrike">
              <a:solidFill>
                <a:srgbClr val="080808"/>
              </a:solidFill>
              <a:latin typeface="Tahoma"/>
            </a:endParaRPr>
          </a:p>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t>
            </a:r>
            <a:r>
              <a:rPr b="0" lang="en-US" sz="3200" spc="-1" strike="noStrike">
                <a:solidFill>
                  <a:srgbClr val="080808"/>
                </a:solidFill>
                <a:latin typeface="Tahoma"/>
              </a:rPr>
              <a:t>Tagging” groups together similar topics</a:t>
            </a: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16:56:04Z</dcterms:created>
  <dc:creator>Paul</dc:creator>
  <dc:description/>
  <cp:keywords/>
  <dc:language>en-US</dc:language>
  <cp:lastModifiedBy>MSJ</cp:lastModifiedBy>
  <dcterms:modified xsi:type="dcterms:W3CDTF">2009-02-09T17:50:59Z</dcterms:modified>
  <cp:revision>73</cp:revision>
  <dc:subject/>
  <dc:title>Web 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41033</vt:lpwstr>
  </property>
</Properties>
</file>